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3788-BE3F-4F71-A3F4-DE1F2B5DD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6C57-CA06-45B7-9C59-3AB478011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C05C-2662-4A02-B864-71487E29C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457B-0805-4754-8AB8-34B872F0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B79-5772-4AB4-B539-3C1B42B8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up with 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95CE-90DC-4044-B9A1-B5E66A287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out c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F5A0-F23C-46C6-A177-FA818566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baby dancing video - play first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E27B-0F36-41E9-9916-839737108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A1E3-9CCC-4648-8E62-DE747C9D1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EFED-67F3-4756-9103-25A296B3B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B780-364D-4996-AC18-4A624331D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arious reinforcement - act out skit… 2 students are sitting down listening one is jumping around or not paying attention… give sticker to children who earn it and a positive complement and other student follow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99CF-8020-4B31-A363-72080A7C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19A3-536E-4E9E-8924-5B20697FA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E6F4-A947-4336-A8B7-0D8407396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how it happens from birth o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baby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: currently living indicidual whose behavior is observed in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_: real or fictional character portrated in the media that influences an observer’s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456-A769-48C4-B11F-DACADA4D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02E-944A-4F83-B3B3-52AC4306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53C-028A-4E76-BB5B-404EDAF8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286-AEF6-4A0F-A32C-02070C02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109-C7EC-4C2F-8556-5FE70902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685-02F3-4F5F-8F2F-891E1E42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819-F70C-47B1-B9EE-63DBD76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F0D-8E2D-4784-AE32-646FE687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846-4752-4B38-8EF4-B032C7A0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7CA-C2C2-408F-8B89-9736988D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667-AB23-494E-9558-0E8E43CA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03C-A392-4D07-8110-C10570C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E015-BB27-49C9-9FCB-E4C0B23B5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cial Cognitive 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lle Ch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nnon Erick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itany Sw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inic Giamat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gela Sin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hrough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emic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ersonal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tige &amp;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ful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 re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lassroo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each component of social cognitive learning be represented in the class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s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Cognitive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pective that can help us understand what and how people learn by observing others and how in the process they begin to take control of their own behavio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rmr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La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Cognitive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occurs as a result of soci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ed in behavio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s cognitive proc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Assumptions of Social Cognitive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2362320"/>
            <a:ext cx="4419720" cy="3962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arn by observing othe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arning is an internal proces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havior chan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gnitive processes influence motivation and learn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eople and their environments influence each oth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havior becomes increasingly self-regula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hape 44"/>
          <p:cNvSpPr/>
          <p:nvPr/>
        </p:nvSpPr>
        <p:spPr>
          <a:xfrm>
            <a:off x="4800600" y="2362320"/>
            <a:ext cx="4191120" cy="3962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Cognitiv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major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ces have an effect on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s form expectations   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s expectations are influenced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arious Rei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 about future 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noccurrence of an expected con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vs. Negative Rei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n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arious pun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tions about future conseque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noccurrence of an expected reinforcement can be a form of pun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Reinforce_Punis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ng a behavior for another person or observing and imitating another person’s behavior” (Ormr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tive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21:29:35Z</dcterms:created>
  <dc:creator>shannon  erickson</dc:creator>
  <dc:description/>
  <dc:language>en-US</dc:language>
  <cp:lastModifiedBy>Britany Sweet</cp:lastModifiedBy>
  <dcterms:modified xsi:type="dcterms:W3CDTF">2013-02-25T22:27:25Z</dcterms:modified>
  <cp:revision>14</cp:revision>
  <dc:subject/>
  <dc:title>Social cognitive theory</dc:title>
</cp:coreProperties>
</file>